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14920" y="-36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6432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14920" y="936432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108F93-63A8-4D3B-A99C-C8244D370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ectron Beam Passes through undulator and radiation is e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ectrons are accelerated by sinusoidal field and emit synchrotron 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B There is constrictive interference which gives a peak radiation flux at a particular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diation hits target (electrons go to 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arget electron positron pairs are 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sitrons are ex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nd Method: Create a rotating dipol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pole field created by a ring of permanent magnet blocks with a rotating magnetisation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 axis helical field created by rotating the dipole rings 360 degrees along 1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ray energy increases the rate of pair production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high energies (&gt;20MeV) cross section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very  high energies (&gt;30MeV)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oo much KE and are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quire 20MeV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on the graph shows the optimum on axis field / undulator period that maximises 20 MeV photon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lbach &amp; SC are “better” in theory but more demanding techn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n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re and Field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lbach 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ts of little blocks - how can you hold them in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diation damage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anar devices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LESS FIEL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B34-BE44-4C4E-9FB4-8AF6F0D1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4216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50280"/>
            <a:ext cx="864216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5B8-F684-4683-911C-6F2355D6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5028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5028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0A8-069E-4E74-931D-EA3617B6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37160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37160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5028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395028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395028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82B-445A-4484-9F6F-5D2D44B1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F0FD-3174-497A-9EEC-5FFF888F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371600"/>
            <a:ext cx="86421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6EB9-BE37-4AAE-8439-6D82492A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42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C079-DEC9-4CF1-A8FA-884FB8A3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42170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2170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23C4-3F70-4E20-8F73-25D41E70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FD28-BC85-4EFF-BE96-C6573F70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78920" y="620640"/>
            <a:ext cx="8713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E17C-4008-46A3-A71D-50382D46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2170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5028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7790-C432-4740-AF61-BC372AC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371600"/>
            <a:ext cx="86421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A6E-CD5F-4E61-9BB0-40C3E64A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42170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9280" y="395028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FBE4-C925-4B4A-901B-738DDC28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50280"/>
            <a:ext cx="864216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5CD0-CDE1-409A-8F1F-0D389D52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4216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50280"/>
            <a:ext cx="864216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0973-F568-4CB1-9196-2CBF59DD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5028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9280" y="395028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0F24-AE0E-494B-9F00-710A5412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73040" y="137160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0" y="137160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5028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73040" y="395028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4800" y="3950280"/>
            <a:ext cx="27824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20E4-C18D-4185-A6B6-7F6F3206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42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902-9062-4F41-8560-79230BD1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42170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2170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19D-09AC-4889-A3A8-8A4B22F1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47D-84AE-4D1A-9B5D-1F35561D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620640"/>
            <a:ext cx="8713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B2F-92AA-42BC-B29B-4DF33382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2170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5028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D9A-8617-437D-8C65-A0733EA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42170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5028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AAB-D375-4A31-9599-4FEE4B4B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2170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50280"/>
            <a:ext cx="864216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E58-F0ED-47A0-B337-F7F9021C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371600"/>
            <a:ext cx="8642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6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6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453360"/>
            <a:ext cx="2133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ncan Scott: LC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4F32-CF5B-431E-8615-9CAF9651D84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1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0" y="1197000"/>
            <a:ext cx="9144000" cy="0"/>
          </a:xfrm>
          <a:prstGeom prst="line">
            <a:avLst/>
          </a:prstGeom>
          <a:ln w="9360">
            <a:solidFill>
              <a:srgbClr val="0e5c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H="1">
            <a:off x="7308720" y="1066680"/>
            <a:ext cx="6480" cy="430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836280"/>
            <a:ext cx="678168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-3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A085-7630-4675-A8B7-6780F6FD79B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451640" y="2997360"/>
            <a:ext cx="1044720" cy="2303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6080" y="836280"/>
            <a:ext cx="678168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rogress on Helical Undulator for Polarised Positron Produc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23640" y="2997000"/>
            <a:ext cx="6769080" cy="27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uncan Sco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T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resbury Labora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udrid Moortgat-Pic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93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lical Undulator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er-Condu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e Permanent 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E38-A1B6-41B6-A80A-9970E2284F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2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93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ed at different helical undulator des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er-Conductin W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manent Magnet Hel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ar Permanent Magnet Hel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rying out Engineering Feasibilty on two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C41-ECE8-4942-BB94-B618ECFD76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2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 - Conducting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64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gnet Design for 12 &amp; 14mm peri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cuum Vessel Diameter 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d the magnetic field at the SC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12mm period this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83%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Critical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14mm period this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50%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Critical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f at Critical Field wires become normal condu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5800" y="4495680"/>
            <a:ext cx="6857640" cy="1752480"/>
            <a:chOff x="685800" y="4495680"/>
            <a:chExt cx="6857640" cy="1752480"/>
          </a:xfrm>
        </p:grpSpPr>
        <p:sp>
          <p:nvSpPr>
            <p:cNvPr id="104" name=""/>
            <p:cNvSpPr/>
            <p:nvPr/>
          </p:nvSpPr>
          <p:spPr>
            <a:xfrm>
              <a:off x="5973480" y="5181480"/>
              <a:ext cx="15699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Hel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iame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346400" y="5257440"/>
              <a:ext cx="46130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794240" y="5165640"/>
              <a:ext cx="98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56280" y="5257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4495680"/>
              <a:ext cx="2528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ndulator Period, </a:t>
              </a:r>
              <a:r>
                <a:rPr b="1" lang="en-GB" sz="1800" spc="-1" strike="noStrike">
                  <a:solidFill>
                    <a:srgbClr val="000000"/>
                  </a:solidFill>
                  <a:latin typeface="Mathematica1"/>
                  <a:ea typeface="Mathematica1"/>
                </a:rPr>
                <a:t>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77400" y="5074920"/>
              <a:ext cx="743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29640" y="5867280"/>
              <a:ext cx="206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urrent, -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94880" y="4571640"/>
              <a:ext cx="170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Current,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677040" y="5714640"/>
              <a:ext cx="74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322-25FD-4EC7-B357-E81BC17F35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2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manent Magnet Undulator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42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lbach” undulator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(Klaus Halbach NIM Vol. 187, No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Example%20Halbach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397320" cy="29797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457200" y="2057400"/>
            <a:ext cx="3429000" cy="3052800"/>
            <a:chOff x="457200" y="2057400"/>
            <a:chExt cx="3429000" cy="3052800"/>
          </a:xfrm>
        </p:grpSpPr>
        <p:pic>
          <p:nvPicPr>
            <p:cNvPr id="117" name="16%20block%20ring" descr=""/>
            <p:cNvPicPr/>
            <p:nvPr/>
          </p:nvPicPr>
          <p:blipFill>
            <a:blip r:embed="rId2"/>
            <a:stretch/>
          </p:blipFill>
          <p:spPr>
            <a:xfrm>
              <a:off x="457200" y="2057400"/>
              <a:ext cx="3429000" cy="30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905120" y="2971800"/>
              <a:ext cx="380880" cy="1295640"/>
            </a:xfrm>
            <a:prstGeom prst="upArrow">
              <a:avLst>
                <a:gd name="adj1" fmla="val 50000"/>
                <a:gd name="adj2" fmla="val 85043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267080" y="5257800"/>
            <a:ext cx="4038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e many rings to creat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ical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181480"/>
            <a:ext cx="2797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PM blocks creat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pol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72C-2995-4CE8-9EC5-C06FCE8F16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2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manent Magnet Undulator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42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ing at 14mm perio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cuum system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um vacuum for stainless steel pipe ~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NEG coating will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NEG coating a 4mm diameter tube has never been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214-9DF4-46C0-BDC2-0E7F953EA73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2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xt -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371600"/>
            <a:ext cx="8893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Condu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other periods &amp; dia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s for making the 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on yoke and non iron vacuum ve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lb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ing the required 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gineering of magnet holders and alignment of 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Build a prototype of preferred option (or one of each…?)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A52-46A5-40F9-80B8-A289FE8A36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2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ncan Scott</cp:lastModifiedBy>
  <cp:lastPrinted>2003-02-03T18:13:39Z</cp:lastPrinted>
  <dcterms:modified xsi:type="dcterms:W3CDTF">2003-03-28T14:27:12Z</dcterms:modified>
  <cp:revision>42</cp:revision>
  <dc:subject/>
  <dc:title>PowerPoint Presentation</dc:title>
</cp:coreProperties>
</file>